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1CB-4469-4CD1-AE35-D9E4B0C7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E78-C42C-4F45-96FD-7715ADEA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DCFED-2646-487D-B7A3-82DB4D2F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16BE2-3885-4BF8-A57A-6D82F072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273C0-8F4B-4F12-983C-61CB16B6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D2C6B-12AB-4BAB-A2D6-74A2439A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D7E47-2466-47CD-86EB-1026A5BE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3E18C-8ED1-4773-95AA-E6EEBBAD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82A5B-4641-42ED-8C6D-187C962E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61DC6-B580-4A89-9831-1A2C70AB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9A039-A6A7-4DB8-B660-FACDE800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F223D-9824-483F-AC1D-A2BD76B2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C02-306E-4A3B-BF6C-E64E5091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0241C-C00D-481A-8AA7-53A59F22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C0613-382B-4142-9548-78C5DD2D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4592F-8468-4A2B-96DA-18BB8550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41432-6A43-48AD-A2B9-C561F9F8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4DA3B-7F59-4D31-AFF5-313284C2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44266-A06B-4F79-A0C0-84EEA83E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497E2-C830-461F-ADBF-6CFD2794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5C6E4-D2B0-4DA9-B1B8-E7C71EEA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D5686-A60E-46A6-9BDC-DEB9A0C2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DE02A-F9BF-4ED5-9242-97E628E4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8C8-BB24-4B70-AAE9-9AF22CA5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4CE2D-F5EF-4AED-A441-263E311F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04178-0EB8-4CF9-8DCE-8D6661E3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6B981-E7D0-40F4-B9E1-BDEDD151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52B4B-A88A-4E80-A97C-7488026B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6FF36-CD9E-4C62-A8D5-005B837E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4A883-E130-411B-AFFB-07BF1FF7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FC44D-2CFC-43A1-800D-28AB4454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D17FE-171F-44E7-9DD5-93A736F3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86583-26B4-40B6-9AEF-490E4B1E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BA5E1-8B92-4499-9792-89D77E61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3731-F52A-4F5F-B885-33DE887C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9CFC1-1EE5-492C-8964-89409FF2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241D5-6486-4E7A-A6F2-586FADA0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A6199-BC40-4298-95D7-D37F4DEC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DF187-1DE6-4357-90B4-1164E08C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11753-F5A0-44D9-B7B3-273C9CB3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E84A3-F4A6-48C2-9F16-9CB6B486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6220D-F5ED-4419-AB1E-29708098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A64EB-3B9D-4EFC-98D0-DB2EF441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B870B-FDAD-4182-BB68-83901B89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5F363-C8F9-43C3-AE1E-08B031FC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A7C7-BCF9-4417-A3C7-A2CFAF20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5EE6A-AA58-4CC2-9063-C50C1EAF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7D41E-20C5-4C02-8A1A-6FF0CB31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D3F2D-3709-4E51-BF34-3A8E06B3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4637E-22F4-4734-9E8B-73E05CE8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E9447-21BF-44B4-8D09-E1DB4470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1D49C-2B75-4AA0-89EA-FA451F9C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F4B2B-C60A-4DEF-84ED-0CCBBF77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37DCC-D3CA-4ACE-855A-85EAF215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8557A-87E7-48B4-B97A-3473BE5B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31946-ED50-4E15-91E0-9A14068D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CAC9-8E9B-45A8-9C55-CBF8B61D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302CB-E83C-4DE9-BD30-344AB808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FAE01-568D-4599-AC89-BB20056F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07331-98F0-4B5B-9602-F99B522B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6F602-FB10-46A3-91DE-34EF49CB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B0E9B-07CE-459E-977F-0D39EA37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049085-C140-4EC0-BB3C-993CEF09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AD7DB-18B7-4228-B2C5-1762FFC3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4CC91D-5974-4F0D-AF92-B4EA9000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66578-D694-46E4-8419-A2B3E046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CDCD4-B651-4EBB-9359-F6405EEC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446D-D3CC-4E91-B679-5F364C70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DB1034-1373-48C0-9ECE-602A931F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7A462-2DF1-499D-9E82-EEC35921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5D130-44D6-4ABB-8604-256BA786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B829C-CBEB-475A-B5C9-5913197B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4C1AE-7DEC-463F-8903-7092BD57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B82EF-A946-48E5-A9AB-4A271E21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F998C-AD37-4A69-8F00-B32DEDCA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1E187-06BF-4D68-B874-75A9EDBA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9D12C-4A74-4A7D-8374-2A90B0C8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61A620-6037-4C27-8844-75A03BDE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BF72-8FFB-49DB-9ED9-D702EBD9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8C83B7-F313-466C-98D6-060B3AA3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ECA8F-794A-4D57-9692-1D471E7A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16087-C719-4A48-A138-D6C6E436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84E1A-D31C-42BB-A80E-5D48360C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3FD6B-BF5B-4D27-86AF-5233C565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8E8C5D-B77E-437D-A436-E16950ED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B611D3-1FBF-41B5-9688-14D45DD0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12B67-9D39-4282-8CF6-E0E2A18F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9CC571-A559-4213-A51A-5A72C39B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BCA00C-53B1-4EA5-B192-70A32E2D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8016-25AB-4D67-BFCA-6FFB69BA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1CF789-E5C8-481A-979C-EC0F5205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6CAE91-2D7E-4C1C-9AA2-5E2CA90E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E3A1D-FBF4-4835-9216-659AEE34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12F3F-F039-47BE-9D13-B796A18E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D4910-6042-4F7D-94DB-29059AA1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08B9C-B12D-422F-8E9D-BCEBD675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EFA2C-54D2-4EDB-85EB-FB2B4CA0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3155E-36C8-4FE5-A6DC-349143F3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ECA2DE-8EBC-43F0-80BC-76EA9B47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6190E-3711-42BE-B196-7AE13440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4259-9E7C-48E6-8951-8EF2289F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576FB2-5335-4320-962E-F825E8F6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C5050-FAB0-48CA-B617-ACB9800F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67D5B-C6ED-447D-961A-E50441A3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774F51-19D3-4D11-AABA-E4D86017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54BEA-4F61-42E8-A04F-0EFCAA13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6F9574-204C-4D62-B4FE-F5AB03AA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70FE0D-2A1E-4CA9-8541-3B152F0D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312827-15AA-4211-ADAE-5ED4006E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768B6-A3B7-469D-BE17-8B053DB7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F9C1D-E023-409F-BA42-4D93CB8C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998-CB64-49CE-9B5A-1BD8D396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2842-7148-4668-A0C0-2B6CD102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B8893-974D-4ACC-A68C-70E5C0EC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01A102-A5A3-4F16-BF4E-7FD50D43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00B385-D9AB-47B6-9E70-FBC29748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14F6A5-925B-4C2B-B7F7-4211DAF2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24BEFF-012A-499F-ACE7-0F4E850A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80885-4172-431C-9E32-903F9748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1F4D64-AD6A-4CDF-AE52-F9BAF5CB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9420CC-5F54-4FB1-B9A3-B86C4842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944E0-3BEA-4978-AEA0-B6B7C3AC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DF5595-A8A9-459D-A2F9-67F71DB2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CE51-128D-4322-9733-6CCC42AA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5FA749-FC7B-4AC2-BF76-207E8980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4F3F83-7E7F-44C7-A53C-F8894636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98F8C3-940D-4404-A053-5BCE5CB1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F5596B-1DAB-42E4-AAFD-77D72760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D3ECF5-D6CD-4426-A9EC-12DD7D3B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5F911B-C5AD-473A-9AED-D5F8A4A5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7F70F-FD2A-488F-BC1A-81FF7960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C6CF3B-5C15-4E08-BA3D-E72522A6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ABF92-F668-4043-9566-402F289A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2342A5-F862-47DE-8E31-E998B8D2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3FB4-909C-42B5-955D-1E2CD201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A187A-569E-47A8-8EC7-C0F24698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FF097D-3191-4AE6-8D3A-67B6128B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BCC667-401A-496A-8558-3FFEFB42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FA876-3FE2-42AF-9FA2-59E31F1A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5F687D-4000-40D8-8E65-9A51BB52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BEBDB6-F973-4EFD-B1C6-701AF7B0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8C9E8-BE56-44E3-A9AE-DF0A22F5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ADC3C3-7D00-4553-B7AF-29E57D24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C5826B-4369-4869-B1DF-E7D6EC73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4ED376-39CF-471E-863E-C123AF92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9AF6-1596-4F11-B46B-B337FC12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D1C9F0-25DF-40F9-93A3-C135DB19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1D50B6-14B9-4F70-B8B8-20E91178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70B86-5CBC-4866-8821-80A5459E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A383DB-275B-4B88-99E1-7A514AFC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EA9926-31DE-4E64-8015-89E1B852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5D624-6686-497E-9F84-0EE31E69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52116B-2130-4323-BD4F-7004B556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558841-E774-4A10-85AA-16D9AEB6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9FDE6-6B31-47D6-B502-B11BF1D0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153077-A8FD-4AEF-B624-AA65BFD2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1EF7-ED1B-4479-A8D3-D80D6302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DAD19A-F459-4543-AAB6-9CBFFFFD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D71C1A-C4F5-41F7-85B3-65D3F9C9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F69294-ACF0-425A-896B-78A5F2E7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039D8D-A046-4FDC-A925-8F22B41D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B9B8B9-2F0A-428B-B415-FCD35523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EC96F2-E307-4627-8301-B695AAAB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DEF286-BA3C-4E31-8D01-81C3863D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278BF1-F15C-4DEA-A3AD-789346DF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2815CF-869D-46F6-8911-BE8C874C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159916-E35A-4142-9CBA-DBA4BBDF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155AA-C9C0-4A87-B1E8-1E19BBB0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84CA9B-C53F-4FAD-9E18-5092FC90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AECAC0-C99A-4597-AA4A-17D708CC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B74C1E-D649-4513-B39A-C0389DA0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3FA3-D1A9-470C-95C0-3B34D8DB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2F653-2B89-4107-BD10-D42653DF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4A3AE-64E2-41AB-995E-11FC049A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4789-A50F-477E-BBE1-CE92B112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20B-5B63-467D-B6F0-235EA324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7F8E5-89FD-408B-92B3-7881596F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F955-84FB-4E86-853D-95AFFBEB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83F0D-88FA-4DEE-80E1-84FFAF02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03EE-06EF-4252-8614-83E8254E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E54F8-8BFB-4282-BBFA-6CB579BB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D176-0BE7-4334-B5AC-8976886D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323D-7BB9-4177-8867-F3CC759A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5EFEE-931F-4031-A77D-A197BBF8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02AD1-228F-4B73-9B94-22E7534C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B6A2B-EC35-4608-A094-50477659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243-E490-4F6C-BFFB-2AF99756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9A144-CE02-45D0-AA35-2807FEA3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B0FA2-9CA3-45AC-93A4-2DC0C587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AAB6D-8330-4279-A44C-ADA4F66E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F42FC-61F8-4552-9A23-C09477EE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73CEC-8E2E-4FF6-ADBA-7B35AE83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B5273-55C2-492A-A7D9-8EF6BA47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AC64D-3DED-4E3D-8D79-C9BABF0D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00AF2-38FC-4B82-81CE-1F0AEDB2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43EEC-0C5E-45EA-9A5D-785BBE1F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06641-3DE0-43D2-A9D8-F4205464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EED-A7EA-4569-B777-CAE2D364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7974D-6F52-4799-A939-A550B06E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35E50-6311-47EA-BE63-EDAB3F61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ACA58-CDDE-40F5-9125-92BD93BE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F5A08-5057-4EF3-990A-33327D55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C0C47-A260-4F21-8DA9-81A60431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6B5D8-5A50-4986-8A4E-6A3BAEF0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40760-4FBD-4D18-B2A3-76EFE6BB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11BBB-A583-4A48-BF4A-75640689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C4D3F-11A7-49FD-8C52-0ADDEE0E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4A4E1-725F-42DA-B7F9-B3CF02B5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0E2-1339-4660-8E5B-109C5C96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C3EC0-83FF-4711-BC40-6CB5B052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E8014-C929-4E43-920D-A102699C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12EDA-0016-4943-B7F6-22B44698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24501-A416-400F-94B4-8E3F1FE1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C81F0-68ED-49DA-8F48-5C30C401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BE0AB-CFB2-40BC-9E23-A9B8B03A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E77B6-0F9B-4FF4-9E77-3241F2A1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F5FE2-81B1-42B3-9315-1AE8741A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BA50F-D5F4-4FE4-8293-ABECACD2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43906-A1D4-4464-85D0-3FFAB1CC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45A-BAF5-4916-AEE5-01E0916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E747C-763C-44B8-A262-C7E826E0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8D9E2-C23D-402F-83B1-7E054449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B01C-B262-4F10-9C5C-B17EF404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BCA49-4EC6-4281-B9AE-D834256D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5E2DA-D1FB-4AC8-B15D-A75542FA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ADC6F-3AD0-4278-899C-9DADB126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930CF-E2A3-4A0F-9C67-8DAF6E5C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8F183-0688-40B4-A708-281F94BD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B1CEA-E653-42FD-9E29-BEC3A8E8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32F61-F3ED-4ECC-99E9-FF275E0B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0CC-C37D-4B2C-870E-3CFF8750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343DD-B5C7-491B-A96C-2E16D62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458B1-8454-479E-BF2C-A4019038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C4BAB-BE58-4935-826B-753D6B41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59E80-B33E-4A70-904F-DFB4D1B8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8295-979D-48A2-BE35-1B7FA371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981F6-1F0F-4D81-83E1-DC290FAE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0877E-0A5D-46E2-881F-AAB67978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34DB6-6C34-4CAC-8C9E-D33B7068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80CFF-3D40-4167-A578-16A7A086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4672A-BC5F-413F-A784-0F3A13B3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23D-802D-4EB0-9138-84288B26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D7AF3-146D-4FEF-A9D5-767B9DC3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46A6F-97CA-4B30-8DAC-648A3AA3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3E14A-62B9-43F1-9E35-D256D9B7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B2670-A473-4901-A176-6F040FD1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4A995-212A-41C8-8896-A68A9BA8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E9C3D-D4A1-4677-8A11-1D308643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879B4-7EF6-4094-97BF-BCAAE172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F8F64-5DFF-4609-85CA-82FC81EE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9319F-A79A-4944-A132-F45B0FD4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7D75E-9373-4EC7-8631-BB9BEE68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2B34-D082-4073-B103-CE2D39315C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6905-33AE-4B04-9759-1055323F50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1379-EB65-48DD-8D4E-23034E3756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B979-5603-4A65-9B4E-1B7E23B4F0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1AB4-E29B-4CEB-BB15-A422B7C9EF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E767-D371-40E6-902B-D645FF42D9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DE16-5F23-47E1-9B5A-F96A214F8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8CCD-8581-4EC5-8EC3-E692276724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C37E-EB83-492A-B20D-302289CBD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25BB-C516-4AE8-8650-43B14A2924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5B2D-1C11-4754-806C-2D9EF5A4DA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E1B3-0440-4C33-B1C3-EE52EADF95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D580-7C2E-4BD3-9EF3-C03183779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D0CA-52F5-4939-87E6-D16E343B5E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8564-9FC1-4348-8A4C-56A2706337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B91C-4B47-480E-BFA6-8D1F65AEA7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8CDD-D23B-45B2-8019-9223D1CB5A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5ACF-2657-4CD8-9289-AA694D5849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8670-86A5-458D-9A91-6820DEDB38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9643-EBB7-4D55-B6D1-C5CF4391B8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3914-2008-4CF4-8E29-41551E3940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6022-E857-481F-8821-E1D0838C71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A967-910B-4737-B116-D50CAE0A0B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D461-18A8-4DF3-84EB-E997028D6B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E23C-09F4-4CC9-BAF1-B699831A67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D8B6-1C36-45D2-9FF5-D372A08BC2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E260-ECF2-446F-99D0-29133245C0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39A8-EAE8-46E1-B996-3FB1EE456E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6698-37FD-4CBD-95DD-87C4477ADF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4176-D8F9-4491-8E8E-17270AFAE2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1B38-1243-43F8-AD47-07B87C58D0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16C3-8520-4EF4-8C34-7AD8B01866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2768-8703-41BB-8A20-B4E7B5C9FE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22F4-A9E3-480F-A85D-CACE5CD2D5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4F32-9A80-4205-BA50-4C043E27B8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D4AE-EF66-4F10-B63E-13C4231EA8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1FC3-A47A-40B4-A73A-1C87E01518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479A-5701-424C-A85D-3FBECD6E79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0BD1-BFAD-4389-8089-9BD5D80B11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8979-DDF8-4E66-8CF8-768D1FCA09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810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500040" y="804960"/>
            <a:ext cx="8143920" cy="5248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873080" y="219852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860640" y="218592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848200" y="21621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831080" y="21621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195640" y="4014720"/>
            <a:ext cx="1224000" cy="263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877000" y="4014720"/>
            <a:ext cx="1224000" cy="263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195640" y="5627520"/>
            <a:ext cx="1224000" cy="263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877000" y="5641920"/>
            <a:ext cx="122400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119160" y="2419200"/>
            <a:ext cx="8905680" cy="201960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9411" descr=""/>
          <p:cNvPicPr/>
          <p:nvPr/>
        </p:nvPicPr>
        <p:blipFill>
          <a:blip r:embed="rId2"/>
          <a:stretch/>
        </p:blipFill>
        <p:spPr>
          <a:xfrm>
            <a:off x="822240" y="3213000"/>
            <a:ext cx="3524400" cy="122868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9412" descr=""/>
          <p:cNvPicPr/>
          <p:nvPr/>
        </p:nvPicPr>
        <p:blipFill>
          <a:blip r:embed="rId3"/>
          <a:stretch/>
        </p:blipFill>
        <p:spPr>
          <a:xfrm>
            <a:off x="4897440" y="3222720"/>
            <a:ext cx="33433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166680" y="1028880"/>
            <a:ext cx="8810640" cy="4800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971640" y="50846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8375" descr=""/>
          <p:cNvPicPr/>
          <p:nvPr/>
        </p:nvPicPr>
        <p:blipFill>
          <a:blip r:embed="rId3"/>
          <a:stretch/>
        </p:blipFill>
        <p:spPr>
          <a:xfrm>
            <a:off x="1432080" y="3054240"/>
            <a:ext cx="1655640" cy="40320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8376" descr=""/>
          <p:cNvPicPr/>
          <p:nvPr/>
        </p:nvPicPr>
        <p:blipFill>
          <a:blip r:embed="rId4"/>
          <a:stretch/>
        </p:blipFill>
        <p:spPr>
          <a:xfrm>
            <a:off x="1422360" y="353376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58377" descr=""/>
          <p:cNvPicPr/>
          <p:nvPr/>
        </p:nvPicPr>
        <p:blipFill>
          <a:blip r:embed="rId5"/>
          <a:stretch/>
        </p:blipFill>
        <p:spPr>
          <a:xfrm>
            <a:off x="1413000" y="401328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8378" descr=""/>
          <p:cNvPicPr/>
          <p:nvPr/>
        </p:nvPicPr>
        <p:blipFill>
          <a:blip r:embed="rId6"/>
          <a:stretch/>
        </p:blipFill>
        <p:spPr>
          <a:xfrm>
            <a:off x="4676760" y="3060720"/>
            <a:ext cx="1655640" cy="40320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58379" descr=""/>
          <p:cNvPicPr/>
          <p:nvPr/>
        </p:nvPicPr>
        <p:blipFill>
          <a:blip r:embed="rId7"/>
          <a:stretch/>
        </p:blipFill>
        <p:spPr>
          <a:xfrm>
            <a:off x="4667400" y="354024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8380" descr=""/>
          <p:cNvPicPr/>
          <p:nvPr/>
        </p:nvPicPr>
        <p:blipFill>
          <a:blip r:embed="rId8"/>
          <a:stretch/>
        </p:blipFill>
        <p:spPr>
          <a:xfrm>
            <a:off x="4672080" y="401940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9"/>
          <a:stretch/>
        </p:blipFill>
        <p:spPr>
          <a:xfrm>
            <a:off x="3708360" y="5084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0"/>
          <a:stretch/>
        </p:blipFill>
        <p:spPr>
          <a:xfrm>
            <a:off x="5796000" y="50846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1"/>
          <a:stretch/>
        </p:blipFill>
        <p:spPr>
          <a:xfrm>
            <a:off x="971640" y="5445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2"/>
          <a:stretch/>
        </p:blipFill>
        <p:spPr>
          <a:xfrm>
            <a:off x="3573360" y="5445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3"/>
          <a:stretch/>
        </p:blipFill>
        <p:spPr>
          <a:xfrm>
            <a:off x="6075360" y="5445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4"/>
          <a:stretch/>
        </p:blipFill>
        <p:spPr>
          <a:xfrm>
            <a:off x="8504280" y="24494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5"/>
          <a:stretch/>
        </p:blipFill>
        <p:spPr>
          <a:xfrm>
            <a:off x="8504280" y="28623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6"/>
          <a:stretch/>
        </p:blipFill>
        <p:spPr>
          <a:xfrm>
            <a:off x="8504280" y="328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7"/>
          <a:stretch/>
        </p:blipFill>
        <p:spPr>
          <a:xfrm>
            <a:off x="8604360" y="36972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8"/>
          <a:stretch/>
        </p:blipFill>
        <p:spPr>
          <a:xfrm>
            <a:off x="8604360" y="4105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9"/>
          <a:stretch/>
        </p:blipFill>
        <p:spPr>
          <a:xfrm>
            <a:off x="8388360" y="4518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0"/>
          <a:stretch/>
        </p:blipFill>
        <p:spPr>
          <a:xfrm>
            <a:off x="8388360" y="49417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1"/>
          <a:stretch/>
        </p:blipFill>
        <p:spPr>
          <a:xfrm>
            <a:off x="8388360" y="536400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29:20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